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untie.wav" ContentType="audio/x-wav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14.png" ContentType="image/png"/>
  <Override PartName="/ppt/media/image13.png" ContentType="image/png"/>
  <Override PartName="/ppt/media/soft.wav" ContentType="audio/x-wav"/>
  <Override PartName="/ppt/media/image6.jpeg" ContentType="image/jpeg"/>
  <Override PartName="/ppt/media/applause.wav" ContentType="audio/x-wav"/>
  <Override PartName="/ppt/media/image12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wallewal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3600" cy="124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E9D5-3606-4CD6-95F8-A38F04962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6752-AE7C-4DFE-B02F-A2BF067A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064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754F-CF45-461D-A285-BFAFE3E3A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7480" y="39636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17760" y="39636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21F9-BCAF-4E6F-921E-083EBB3D5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8005-404F-4C80-AB7D-5A9E5AAAC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4811-7926-4523-928F-611E9606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7295-ADF5-45FF-8F98-0C09192C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3F63-BB31-4626-B512-9E83DD02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C79C-C9C7-4724-B517-6C40EC79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312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1BA7-40C5-4821-A2BF-7CFE8D7F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789A-FB2B-4D43-B9BF-DE00B670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3114-A61C-485E-8F82-C9413ACB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064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9306-08C8-4107-9506-6A3E69D0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D6AE-78D9-41CF-9AB9-A8AB3341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292B-BA8F-497C-824F-5D0CBD02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064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BA39-5C83-441B-A548-F37A3A9E4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7480" y="39636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17760" y="39636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72FD-A626-4CC0-AEB8-9CE919CB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1227-786D-48AC-8AA3-B746FF10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A78B-D849-4873-A561-7B800F79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7E28-ACA4-47CD-809C-3B507A47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312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02EF-8C04-4354-92C2-5BF1655A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21F3-BD64-4FF5-AD8A-9FD45672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064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E2CB-7BC0-4FFC-AB8E-E3A16578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E19F-6659-494A-8742-0F0C9872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5520"/>
              <a:chOff x="1440" y="622440"/>
              <a:chExt cx="9141120" cy="24955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120"/>
            <a:ext cx="21272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120"/>
            <a:ext cx="21272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72949-ED10-4EF0-A157-E903F18DE7EB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680" cy="6851520"/>
            <a:chOff x="0" y="0"/>
            <a:chExt cx="9148680" cy="6851520"/>
          </a:xfrm>
        </p:grpSpPr>
        <p:sp>
          <p:nvSpPr>
            <p:cNvPr id="79" name=""/>
            <p:cNvSpPr/>
            <p:nvPr/>
          </p:nvSpPr>
          <p:spPr>
            <a:xfrm>
              <a:off x="800748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48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760" y="0"/>
              <a:ext cx="8092800" cy="6851520"/>
              <a:chOff x="455760" y="0"/>
              <a:chExt cx="809280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840" y="0"/>
                <a:ext cx="11448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2120" y="0"/>
                <a:ext cx="27648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9080" y="0"/>
                <a:ext cx="53532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416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560" y="0"/>
                <a:ext cx="88596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840" y="0"/>
                <a:ext cx="109548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9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700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120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3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920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7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76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92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2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100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2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92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92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5520"/>
              <a:chOff x="0" y="622440"/>
              <a:chExt cx="9140760" cy="24955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59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120"/>
            <a:ext cx="21272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120"/>
            <a:ext cx="21272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8638F-4C90-4860-A392-B97C1BD7324D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om/imgres?imgurl=http://www.baptistcollege.edu/news_events/press/2006/russia_homeless_0306.jpg&amp;imgrefurl=http://www.baptistcollege.edu/news_events/press/2006/russia_homeless.htm&amp;usg=__n-JQfrmj-evry7nToidx313KVqU=&amp;h=480&amp;w=640&amp;sz=191&amp;hl=en&amp;start=2&amp;zoom=1&amp;itbs=1&amp;tbnid=fYq-kJqBQrYaLM:&amp;tbnh=103&amp;tbnw=137&amp;prev=/images%3Fq%3Drussia%2Bhomeless%2Bpeople%26hl%3Den%26gbv%3D2%26tbs%3Disch:1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audio" Target="../media/unti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markbrouwer.com/wp-content/uploads/2008/01/holding-hope.jpg&amp;imgrefurl=http://markbrouwer.com/%3Fp%3D118&amp;usg=__X8R57vJvarkN9ApZ9h7LAj8oWNM=&amp;h=357&amp;w=336&amp;sz=107&amp;hl=en&amp;start=1&amp;zoom=1&amp;itbs=1&amp;tbnid=lSkOd2uHYpCTSM:&amp;tbnh=121&amp;tbnw=114&amp;prev=/images%3Fq%3Dpeople%2Bstruggling%26hl%3Den%26gbv%3D2%26tbs%3Disch:1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google.com/imgres?imgurl=http://www.globalsecurity.org/wmd/library/news/russia/2000/russia/8-1.gif&amp;imgrefurl=http://www.globalsecurity.org/wmd/library/news/russia/2000/russia/part08.htm&amp;usg=__VLJEEk0K0adq1zSDiiuIYaoLYqo=&amp;h=304&amp;w=396&amp;sz=101&amp;hl=en&amp;start=4&amp;zoom=1&amp;itbs=1&amp;tbnid=tXgfUtJY3nenBM:&amp;tbnh=95&amp;tbnw=124&amp;prev=/images%3Fq%3Drussian%2Bpoverty%26hl%3Den%26gbv%3D2%26tbs%3Disch:1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audio" Target="../media/soft.wav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audio" Target="../media/wallewal.wav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9144000" cy="32004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62120" y="3733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Brush Script MT"/>
              </a:rPr>
              <a:t>Present Day in Mother Russi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5257800"/>
            <a:ext cx="640080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By: Jason K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Peter Gag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657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87480" y="685800"/>
            <a:ext cx="7181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Brush Script MT"/>
              </a:rPr>
              <a:t>Present Day in Mother Russi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28800" y="2286000"/>
            <a:ext cx="47451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By: Jason K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Ryan L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Peter Gag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u"/>
    <p:sndAc>
      <p:stSnd>
        <p:snd r:embed="rId5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57200" y="351000"/>
            <a:ext cx="82296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3399ff"/>
                </a:solidFill>
                <a:latin typeface="Bodoni MT Condensed"/>
              </a:rPr>
              <a:t>Government Method Backfi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1371600"/>
            <a:ext cx="822960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Presidents serve a term for six years and may be elected for back-to-back te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Change of government from communist to democracy cause many prob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Job losses caused by wrong choices in career because after they changed to democracy, they became a free market econo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Russians decided to reduce price so people can afford it. However, they were short on supply so they needed to rise the price and many people couldn’t afford it anym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Copied the U.S. democracy government but the Russian president has more power like signing laws with only his/her own approval but some use it to make decisions but they aren’t always good deci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  <p:sndAc>
      <p:stSnd>
        <p:snd r:embed="rId6" name="untie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 fill="hold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 fill="hold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7" dur="500" fill="hold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 fill="hold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" dur="500" fill="hold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dur="indefinite" fill="hold">
                      <p:stCondLst>
                        <p:cond delay="indefinite"/>
                      </p:stCondLst>
                      <p:childTnLst>
                        <p:par>
                          <p:cTn id="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 fill="hold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0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5" dur="500" fill="hold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2895480"/>
            <a:ext cx="9185400" cy="97534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0672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955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Agriculture is horrible because it is so cold the ground doesn’t thaw out until May or June making it hard to plant crop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Pover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Life expectancy decrease because of the air pollu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57800" y="4572000"/>
            <a:ext cx="3200400" cy="18288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685800" y="4572000"/>
            <a:ext cx="3429000" cy="1809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2057400" y="-228600"/>
            <a:ext cx="4857840" cy="942840"/>
          </a:xfrm>
          <a:prstGeom prst="rect">
            <a:avLst/>
          </a:prstGeom>
          <a:ln w="0">
            <a:noFill/>
          </a:ln>
        </p:spPr>
      </p:pic>
    </p:spTree>
  </p:cSld>
  <p:transition spd="slow">
    <p:plus/>
    <p:sndAc>
      <p:stSnd>
        <p:snd r:embed="rId7" name="soft.wav"/>
      </p:stSnd>
    </p:sndAc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dur="indefinite" fill="hold">
                      <p:stCondLst>
                        <p:cond delay="indefinite"/>
                      </p:stCondLst>
                      <p:childTnLst>
                        <p:par>
                          <p:cTn id="1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73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75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77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dur="indefinite" fill="hold">
                      <p:stCondLst>
                        <p:cond delay="indefinite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 fill="hold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d Deci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ilt nuclear power plants that leave dangerous by-produc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anged to democracy which was a hard transition because many things were new to the peop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clear power plants by-products cause explosion in Chernobyl and pollu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6934320" y="2286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  <p:sndAc>
      <p:stSnd>
        <p:snd r:embed="rId4" name="wallewal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10:13Z</dcterms:created>
  <dc:creator>KUNG</dc:creator>
  <dc:description/>
  <dc:language>en-US</dc:language>
  <cp:lastModifiedBy> </cp:lastModifiedBy>
  <dcterms:modified xsi:type="dcterms:W3CDTF">2010-12-15T15:48:32Z</dcterms:modified>
  <cp:revision>12</cp:revision>
  <dc:subject/>
  <dc:title>Present Day Russia</dc:title>
</cp:coreProperties>
</file>